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5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1066680"/>
            <a:ext cx="6781680" cy="1905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fafd00"/>
                </a:solidFill>
                <a:uFillTx/>
                <a:latin typeface="Times New Roman"/>
              </a:rPr>
              <a:t>Αξιολογήσεις Μελετών Ασφάλειας Εγκαταστάσεων Υγραερίων και Εύφλεκτων Ουσιών 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ρ. Γ. Α. Παπαδάκ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ολυτεχνείο Κρήτ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μήμα Μηχανικών Παραγωγής και Διοίκηση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ολυτεχνειούπολη 73100 Χανιά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mail: gpap@dpem.tuc.g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__________________________________________</a:t>
            </a:r>
            <a:r>
              <a:rPr b="1" lang="el-GR" sz="1800" spc="-1" strike="noStrike">
                <a:solidFill>
                  <a:srgbClr val="ffff66"/>
                </a:solidFill>
                <a:latin typeface="Times New Roman"/>
              </a:rPr>
              <a:t>_________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_________</a:t>
            </a:r>
            <a:r>
              <a:rPr b="1" lang="el-GR" sz="1800" spc="-1" strike="noStrike">
                <a:solidFill>
                  <a:srgbClr val="ffff66"/>
                </a:solidFill>
                <a:latin typeface="Times New Roman"/>
              </a:rPr>
              <a:t>_</a:t>
            </a: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_</a:t>
            </a:r>
            <a:r>
              <a:rPr b="1" lang="el-GR" sz="1800" spc="-1" strike="noStrike">
                <a:solidFill>
                  <a:srgbClr val="ffff66"/>
                </a:solidFill>
                <a:latin typeface="Times New Roman"/>
              </a:rPr>
              <a:t>___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66"/>
                </a:solidFill>
                <a:latin typeface="Times New Roman"/>
              </a:rPr>
              <a:t>Βιομηχανικά Ατυχήματα Μεγάλης Έκτασης – Σεμινάριο ΥΠΑ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66"/>
                </a:solidFill>
                <a:latin typeface="Times New Roman"/>
              </a:rPr>
              <a:t>Αθήνα 18 – 19 Απριλίου 200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6913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ffffff"/>
                </a:solidFill>
                <a:uFillTx/>
                <a:latin typeface="Times New Roman"/>
              </a:rPr>
              <a:t>Αξιολόγηση Μελετών Ασφάλειας (ΜΑ)</a:t>
            </a:r>
            <a:r>
              <a:rPr b="0" lang="el-GR" sz="3200" spc="-1" strike="noStrike" u="sng">
                <a:solidFill>
                  <a:srgbClr val="fafd00"/>
                </a:solidFill>
                <a:uFillTx/>
                <a:latin typeface="Times New Roman"/>
              </a:rPr>
              <a:t> </a:t>
            </a:r>
            <a:br>
              <a:rPr sz="3200"/>
            </a:br>
            <a:r>
              <a:rPr b="0" lang="el-GR" sz="3200" spc="-1" strike="noStrike" u="sng">
                <a:solidFill>
                  <a:srgbClr val="fafd00"/>
                </a:solidFill>
                <a:uFillTx/>
                <a:latin typeface="Times New Roman"/>
              </a:rPr>
              <a:t>Προκαταρκτικοί  Έλεγχοι 2/2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1773360"/>
            <a:ext cx="784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2" marL="748080" indent="-31428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ξετάζονται στη ΜΑ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όλες οι μονάδε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με επικίνδυνες ουσίες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8080" indent="-31428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 </a:t>
            </a:r>
            <a:r>
              <a:rPr b="0" lang="el-GR" sz="2400" spc="-1" strike="noStrike">
                <a:solidFill>
                  <a:srgbClr val="00ffcc"/>
                </a:solidFill>
                <a:latin typeface="Times New Roman"/>
              </a:rPr>
              <a:t>ΟΧΙ,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ποιος είναι ο λόγος; π.χ. λόγω του ότι οι ποσότητες των ουσιών στις μονάδες αυτές είναι κάτω από τις οριακές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8080" indent="-31428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μέγιστη ποσότητα των ουσιών στις μονάδες που δεν αναφέρονται υπερβαίνουν το 5 % της οριακής τιμή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48080" indent="-31428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Οι εξεταζόμενες μονάδες είναι λειτουργικά και γεωγραφικά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διαχωρισμένες από άλλες διεργασίες ή αποτελούν τμήμα εγκατάσταση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με άλλες μονάδε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6913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ffffff"/>
                </a:solidFill>
                <a:uFillTx/>
                <a:latin typeface="Times New Roman"/>
              </a:rPr>
              <a:t>Κύριοι Στόχοι Αξιολόγησης 1/2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1844640"/>
            <a:ext cx="78487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ΦΑΣΗ Α΄: ΕΛΕΓΧΟΣ ΠΛΗΡΟΤΗΤΑ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ων κύριων στοιχείων της ΜΑ συμπεριλαμβανομένου και του Συστήματος Διαχείρισης Ασφάλει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ν δεν υπάρχει  πλήρης αναφορά και επαρκής περιγραφή σε αυτά τα στοιχεία δεν είναι δυνατή η αξιολόγηση της 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Ερωτηματολόγιο Ελέγχου Πληρότητα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6913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ffffff"/>
                </a:solidFill>
                <a:uFillTx/>
                <a:latin typeface="Times New Roman"/>
              </a:rPr>
              <a:t>Κύριοι Στόχοι Αξιολόγησης 2/2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1557360"/>
            <a:ext cx="7848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2" marL="886320" indent="-452520" algn="just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ΦΑΣΗ Β΄ : ΕΛΕΓΧΟΣ ΕΠΑΡΚΕΙΑ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ξιολόγηση μεθόδων και αποτελεσμάτων στα θέματα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ναγνώριση των  κινδύνων και καθορισμό των αιτιών ατυχημάτ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Προσδιορισμός και ιεράρχηση των σεναρίων ατυχημάτω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Λειτουργίες &amp; συστήματα ασφάλειας, μέτρα πρόληψης και καταστολής,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κα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Συστήματα Διαχείρισης Ασφάλειας (</a:t>
            </a:r>
            <a:r>
              <a:rPr b="0" i="1" lang="el-GR" sz="2400" spc="-1" strike="noStrike">
                <a:solidFill>
                  <a:srgbClr val="ffff00"/>
                </a:solidFill>
                <a:latin typeface="Times New Roman"/>
              </a:rPr>
              <a:t>επιθεωρήσεις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6913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Α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ΠΛΗΡΟΤΗΤΑΣ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1484280"/>
            <a:ext cx="7848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Εφαρμόζεται Ερωτηματολόγιο μ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Λίστα Ελάχιστων Κριτηρίων Πληρότητας για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εριγραφή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κίνδυνες ουσί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εργασί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ιτίες ατυχημάτω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έτρα πρόληψη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ενάρια και επιπτώσεις ατυχημάτων (ΒΑΜ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ολιτική Πρόληψης ΒΑΜΕ και ΣΔ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3200"/>
            </a:b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ΕΛΕΓΧΟΣ ΕΠΑΡΚΕΙΑΣ  ΜΑ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1484280"/>
            <a:ext cx="75596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2" marL="868320" indent="-4431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1. Περιγραφή (θέση, ουσίες, λειτουργία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320" indent="-4431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2. Εντοπισμός Κινδύνων (αναγνώριση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320" indent="-44316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2.1 Κρίσιμος εξοπλισμός, επιλογή εξοπλισμ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320" indent="-44316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2.2 Ανάλυση Κινδύνων (λίστες ελέγχου, συστηματικές αναλύσεις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320" indent="-44316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2.3 Κατηγορίες εκλύσεων στο κρίσιμο εξοπλισμ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320" indent="-44316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2.4 Παρελθόντα ατυχήματ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320" indent="-4431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3. Σενάρια ατυχημάτων (σενάρια που εξετάζονται στα εύφλεκτα υγρά και αέρια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320" indent="-4431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4. Αιτίες ατυχημάτων στο κρίσιμο εξοπλισμ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320" indent="-4431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5. Μέτρα πρόληψης – ελέγχου - καταστολ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61056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35280" y="404640"/>
            <a:ext cx="6913440" cy="1368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3200"/>
            </a:b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ΕΛΕΓΧΟΣ ΕΠΑΡΚΕΙΑΣ  ΜΑ</a:t>
            </a:r>
            <a:br>
              <a:rPr sz="32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1. Περιγραφή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989000"/>
            <a:ext cx="7848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ΠΕΡΙΓΡΑΦΗ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Εφαρμόζεται Ερωτηματολόγιο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με Λίστα Κριτηρίων για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ενική Περιγραφή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οποθεσ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κίνδυνες ουσίε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Διεργασί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αροχές - Υπηρεσί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2. Εντοπισμός Κινδύνων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700280"/>
            <a:ext cx="77058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ΚΡΙΣΙΜΟΣ ΕΞΟΠΛΙΣΜΟ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Εντοπισμός Κρίσιμου Εξοπλισμού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 (περιοχές) π.χ. δεξαμενές αποθήκευσης, αποθήκες γεμάτων φιαλών, δοχεία μεγάλης χωρητικότητας, δοχεία και εξοπλισμός υπό πίεση, σωληνώσεις μεγάλης διατομής, σωληνώσεις τροφοδοσίας, σημεία φορτο-εκφόρτωσης, βυτιοφόρα, κλ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Έλεγχος Κρίσιμου Εξοπλισμού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με κριτήριο ποσότητας π.χ. 5% της οριακής τιμής ή δείκτες κινδύνου ή εφαρμογή μεθοδολογίας επιλογή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 2.1 Επιλογή Εξοπλισμού 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1773360"/>
            <a:ext cx="77774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Δείκτες Κινδύνου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ow (F&amp;E , T)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 υπάρχουν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πολλές μονάδες και πολλές εύφλεκτες ουσίες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εφαρμογή των δεικτών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ow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(απαιτούνται αναλυτικά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τοιχεία συνθηκών λειτουργίας)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, μπορεί να περιορίσει σημαντικά την ανάλυση στον πλεόν κρίσιμο εξοπλισμ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Η Ολλανδική μεθοδολογία επιλογής εξοπλισμού λαμβάνει υπόψη την απόσταση του εξοπλισμού από επιλεγμένο τυχόν αποδέκτη ή τα όρια του οικοπέδου της εγκατάστασης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rple Book: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uidelines for QRA, SZW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</a:t>
            </a:r>
            <a:br>
              <a:rPr sz="28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2.1 Εξοπλισμός -Μεθοδολογία Επιλογής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170028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άσει της μεθοδολογίας επιλέγεται ο εξοπλισμός που έχει τις μεγαλύτερες τιμές ενός  χαρακτηριστικού παράγοντα (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 για κάθε εξοπλισμό της εγκατάστασης:   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Α =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σ / 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= η μέγιστη ποσότητα επικίνδυνης ουσίας στον εξοπλισμ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 = παράγοντας συνθηκών (υπολογίζεται βάση των ιδιοτήτων της  ουσίας και συνθηκών διεργασίας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ψ = οριακή ποσότητα της επικίνδυνης ουσίας σύμφωνα με την ΚΥ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Τέλος, υπολογίζεται η διόρθωση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c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με την απόσταση (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) της θέσης του εξοπλισμού από το εξωτερικό σύνορο της εγκατάσταση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05120" indent="-3812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= (100/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  για τοξικές ουσίε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905120" indent="-38124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= (100/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l-GR" sz="20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  για εύφλεκτες και εκρηκτικές ουσίε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2.2 Ανάλυση Κινδύνων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1557360"/>
            <a:ext cx="7920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2" marL="868320" indent="-44316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Συστηματική Ανάλυση Κινδύνων (απαιτείται όταν ο δείκτης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ow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είναι μεγάλος, π.χ.  &gt; 9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320" indent="-44316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άλυση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ΗΑΖΟΡ (ή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at If?)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για τον σημαντικότερο εξοπλισμό: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ποκλίσεις από κανονικές συνθήκες λειτουργίας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π.χ. υψηλή θερμοκρασία, πίεση, υπερβολική ροή, κλπ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320" indent="-44316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Ελέγχονται οι πιθανοί κίνδυνοι και άμεσες αιτίες.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ναφέρονται και τα σχετικά προληπτικά μέτρα που έχουν ληφθεί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από την εταιρ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68320" indent="-44316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ν  δεν παρέχεται συστηματική ανάλυση γίνεται έλεγχος με λίστα πιθανών αποκλίσεων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8360" y="61056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33600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ffff66"/>
                </a:solidFill>
                <a:latin typeface="Times New Roman"/>
              </a:rPr>
              <a:t>Γ.Α. Παπαδάκης, </a:t>
            </a:r>
            <a:r>
              <a:rPr b="0" lang="el-GR" sz="2800" spc="-1" strike="noStrike">
                <a:solidFill>
                  <a:srgbClr val="ffff66"/>
                </a:solidFill>
                <a:latin typeface="Times New Roman"/>
              </a:rPr>
              <a:t>Χημ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ffff66"/>
                </a:solidFill>
                <a:latin typeface="Times New Roman"/>
              </a:rPr>
              <a:t>Μηχ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.,</a:t>
            </a:r>
            <a:r>
              <a:rPr b="0" lang="el-GR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MSc, </a:t>
            </a:r>
            <a:r>
              <a:rPr b="0" lang="en-GB" sz="2800" spc="-1" strike="noStrike">
                <a:solidFill>
                  <a:srgbClr val="ffff66"/>
                </a:solidFill>
                <a:latin typeface="Times New Roman"/>
              </a:rPr>
              <a:t>PhD</a:t>
            </a:r>
            <a:br>
              <a:rPr sz="2800"/>
            </a:b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1557360"/>
            <a:ext cx="77058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0760" indent="-50760">
              <a:lnSpc>
                <a:spcPct val="90000"/>
              </a:lnSpc>
              <a:spcBef>
                <a:spcPts val="499"/>
              </a:spcBef>
              <a:buClr>
                <a:srgbClr val="8cf4e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1993 - 1999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Europ. Commissio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ραμματέας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WG 2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SO II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G XI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(ΓΔ Περιβάλλοντος)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RC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Κατευθυντήριες Οδηγίες για την Σύνταξη των Εκθέσεων Ασφάλειας &amp; Κατευθυντήριες Οδηγίες Επιθεωρήσεων 96/82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/EC (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ΚΥΑ 5697/2000)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: </a:t>
            </a: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mahbsrv.jrc.it/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-5076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-50760">
              <a:lnSpc>
                <a:spcPct val="90000"/>
              </a:lnSpc>
              <a:spcBef>
                <a:spcPts val="499"/>
              </a:spcBef>
              <a:buClr>
                <a:srgbClr val="8cf4e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1996 - 1999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κπρόσωπος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JRC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C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ρόταση Κοινοτικής Οδηγίας για μεταφορά επικίνδυνων σε αγωγούς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(Pipelines) – </a:t>
            </a: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2004-2006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(DG TREN)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μάδα ανάλυσης - πρότασης μέτρων στην Ευρ. Επιτροπή για τον έλεγχο των κινδύνων στις μεταφορές καυσίμων (φυσικό αέριο – πετρελαιοειδή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-5076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-50760">
              <a:lnSpc>
                <a:spcPct val="90000"/>
              </a:lnSpc>
              <a:spcBef>
                <a:spcPts val="499"/>
              </a:spcBef>
              <a:buClr>
                <a:srgbClr val="8cf4e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1999- 2001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τονιστής Ευρωπαϊκού  Προγράμματος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SMMARTEN (ΕΜΠ-TNO-JRC)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στήματα Διαχείριση Ασφάλειας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ε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Μ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Ε, </a:t>
            </a: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mahbsrv.jrc.it/RelatedProjects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και</a:t>
            </a: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 www.microrisk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2001</a:t>
            </a:r>
            <a:r>
              <a:rPr b="0" lang="en-GB" sz="2000" spc="-1" strike="noStrike">
                <a:solidFill>
                  <a:srgbClr val="ffff66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g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-5076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0760" indent="-50760">
              <a:lnSpc>
                <a:spcPct val="90000"/>
              </a:lnSpc>
              <a:spcBef>
                <a:spcPts val="499"/>
              </a:spcBef>
              <a:buClr>
                <a:srgbClr val="8cf4e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1998-2001 ΜΕΘΟΔΟΛΟΓΙΑ Αξιολογήσεων ΣΕΒΕΖΟ Ι και Αξιολογήσεις Μελετών Ασφάλειας (ΕΜΠ) – ΥΠΑ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912600" cy="13269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2.3 Κατηγορίες εκλύσεων 1/2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1628640"/>
            <a:ext cx="7920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lvl="2" marL="859320" indent="-438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Έλεγχος με βάση ελάχιστη λίστα πιθανών εκλύσεων στον κρίσιμο εξοπλισμ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59320" indent="-43884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Δεξαμενές – δοχεί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59320" indent="-4388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ιγμιαία διαφυγή (καταστροφική ρήξη δοχείου): διαφυγή ποσότητας ίσης προς τη μέγιστη χωρητικότητα του εξοπλισμ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9320" indent="-4388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εχής διαρροή (μεγάλο ρήγμα στο δοχεί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9320" indent="-4388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εχής διαρροή στις συνδέσεις του δοχεί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9320" indent="-43884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Σωληνώσει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59320" indent="-4388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αφυγή από καταστροφική ρήξη αγωγού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59320" indent="-4388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Διαρροή από οπή στον αγωγό (οπή διαρροής &lt; διάμετρο αγωγού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32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2.3 Κατηγορίες εκλύσεων 2/2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2133720"/>
            <a:ext cx="7920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Για όλες τις πιθανές κατηγορίες εκλύσεων στον κρίσιμο εξοπλισμό ελέγχεται ο ρυθμός διαρροής και η διάρκεια διαρροής που παρουσιάζεται στη Μ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ξετάζεται η τεκμηρίωση που παρέχεται για τους χρόνους διαρροής λόγω μέτρων και συστημάτων διακοπής της ροή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ια διαρροές αερίων οι ρυθμοί διαρροής και ποσότητες  είναι σχετικά μικρότερες από τις αντίστοιχες των υγρώ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ι διαρροές υγρών από τον πυθμένα των δοχείων, από μεγάλες οπές και υπό πίεση παρουσιάζουν σχετικά τις μεγαλύτερες τιμές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2.4 Παρελθόντα Ατυχήματα 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1628640"/>
            <a:ext cx="7920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2" marL="886320" indent="-45252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παιτείται αναφορά σε ατυχήματα ή παρολίγον ατυχήματα που τυχόν έχουν συμβεί στην εγκατάσταση με εμπλοκή των επικίνδυνων ουσιών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πιπλέον ζητείται κατάλογος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ρελθόντων ατυχημάτων από βάσεις δεδομένων ατυχημάτων (π.χ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RS)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 αναφορές σε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ιτίες των ατυχημάτω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έγεθος και σημεία διαρροώ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έτρων που ελήφθησα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τηγορίες έκλυ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κτηθείσα εμπειρ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Τα στοιχεία πρέπει να έχουν ληφθεί υπόψη στη 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Σενάρια Ατυχημάτων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LPG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1/2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628640"/>
            <a:ext cx="842472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Για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PG </a:t>
            </a: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και εύφλεκτα υγροποιημένα αέρια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εξετάζονται  όλες οι σημαντικές πιθανές καταστάσεις βλάβης από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Θερμική ακτινοβολία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Πύρινη σφαίρα 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BLEVE -Fire ball)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στιγμιαία διαρροή από δοχείο και άμεση ανάφλεξ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Γλώσσα φωτιά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Jet Fire)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συνεχής διαρροή και άμεση ανάφλεξ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Φωτιά λίμνη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(pool fire)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Μόνον εάν στοιχειοθετείται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από τις συνθήκες διαρροής υγρού και τις ιδιότητες του υγροποιημένου αερίου καυσίμο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Κατάκαυση 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lash Fire):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Συνεχής ή ημι-συνεχής διαρροή - διασπορά αερίου νέφους και καθυστερημένη ανάφλεξη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θήκε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τμοσφαιρικής ευστάθεια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5 , F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Σενάρια Ατυχημάτων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PG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2/2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2" marL="8863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Για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LPG </a:t>
            </a: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και εύφλεκτα υγροποιημένα αέρια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εξετάζονται  όλες οι σημαντικές πιθανές καταστάσεις βλάβης από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Υπερπίεση από έκρηξη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VCE)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ε ανοικτό ή ημι-έγκλειστο χώρ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εχής διαρροή - Διασπορά αερίου νέφους και καθυστερημένη ανάφλεξη (εξέταση πιθανών σημείων ανάφλεξης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Τοξικό νέφος: Διασπορά τοξικών ουσιών με τα καυσαέρια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Μόνον εάν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στοιχειοθετείται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από τη σύσταση του υγροποιημένου αερίου π.χ. περιεκτικότητα σ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(όχι για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LPG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86320" indent="-45252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εχής διαρροή - Διασπορά αερίου νέφου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θήκε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5 , F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Σενάρια Ατυχημάτων  Εύφλεκτων υγρών 1/2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1557360"/>
            <a:ext cx="8064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lvl="2" marL="87732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Για </a:t>
            </a: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εύφλεκτα υγρά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εξετάζονται  όλες οι σημαντικές πιθανές καταστάσεις βλάβης από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Θερμική ακτινοβολία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Γλώσσα φωτιά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Jet Fire)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συνεχής διαρροή και άμεση ανάφλεξ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Φωτιά λίμνη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(pool fire)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διαρροή υγρού και ανάφλεξη δημιουργηθείσας λίμνη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Φωτιά  οροφής σε δεξαμενή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: ανάφλεξη υγρού στην οροφή -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Φωτιά λίμνη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(pool fire)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Κατάκαυση (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Flash Fire):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Εάν στοιχειοθετείται από εξάτμιση του υγρού και δημιουργία εκρηκτικού νέφους - διασπορά αερίου νέφους και καθυστερημένη ανάφλεξη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θήκε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5 , F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Σενάρια Ατυχημάτων  Εύφλεκτων υγρών 2/2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1557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Για </a:t>
            </a: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εύφλεκτα υγρά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εξετάζονται  όλες οι σημαντικές πιθανές καταστάσεις βλάβης από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00"/>
                </a:solidFill>
                <a:uFillTx/>
                <a:latin typeface="Times New Roman"/>
              </a:rPr>
              <a:t>Τοξικό νέφος: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Διασπορά τοξικών ουσιών με τα καυσαέρια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Μόνον εάν στοιχειοθετείται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από τη σύσταση του υγρού π.χ. περιεκτικότητα σ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(ο ρυθμός παραγωγής καυσαερίων π.χ.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2, NOx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υπολογίζεται στοιχειομετρικά  μετά  από τέλεια καύση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εχής διαρροή - Διασπορά αερίου νέφου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υνθήκες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5 , F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Υπερπίεση από έκρηξη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UVCE)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ε ανοικτό ή ημι-έγκλειστο χώρο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 u="sng">
                <a:solidFill>
                  <a:srgbClr val="ffff00"/>
                </a:solidFill>
                <a:uFillTx/>
                <a:latin typeface="Times New Roman"/>
              </a:rPr>
              <a:t>Μόνον εάν στοιχειοθετείται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από εξάτμιση του υγρού και δημιουργία εκρηκτικού νέφους - Διασπορά αερίου νέφους και καθυστερημένη ανάφλεξη (εξέταση πιθανών σημείων ανάφλεξης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4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4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Αιτίες Ατυχημάτων 1/3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1413000"/>
            <a:ext cx="7991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lvl="2" marL="87732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Ελέγχονται οι πιθανές άμεσες αιτίες που αποτελούν εναρκτήρια γεγονότα στον κρίσιμο εξοπλισμό με εξαντλητική λίστα 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Διάβρω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Αποσάθρωση, Γήραν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Εξωτερική φόρτιση/ μηχανική καταπόνηση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Κρούση(Κτύπημα)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Πίεση (Υψηλή /Χαμηλή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Στάθμη (Υψηλή /Χαμηλή)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Δονήσεις /κραδασμοί 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Θερμοκρασία(Υψηλή /Χαμηλή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Εσφαλμένη τοποθέτηση εξοπλισμού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Σφάλμα χειρισμού</a:t>
            </a:r>
            <a:r>
              <a:rPr b="1" lang="en-GB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Φαινόμενα Αλληλουχίας Συνεπειών (από άλλα σημεία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877320" indent="-447840">
              <a:spcBef>
                <a:spcPts val="45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Άλλη αιτία π.χ. σεισμός, πλημμύρα, ισχυροί άνεμο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912960" cy="1326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Αιτίες Ατυχημάτων 2/3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1773360"/>
            <a:ext cx="8064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υμπληρώνονται πίνακες με τις πληροφορίες που περιλαμβάνονται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ις περιγραφές περιστατικών παρελθόντων ατυχημάτων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η μεθοδολογία Ανάλυσης Κινδύνου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ZOP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), κα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α δεδομένα για πιθανές αιτίες που αναφέρονται στη ΜΑ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Στα δεδομένα για πιθανές αιτίες που αναφέρονται σε ΜΑ συναφών μονάδων και εγκαταστάσεω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Αιτίες Ατυχημάτων 3/3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1844640"/>
            <a:ext cx="8064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τις αιτίες που εξετάζονται στον κρίσιμο εξοπλισμό χρησιμοποιείται η κλίμακα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60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Η αιτία δεν εφαρμόζεται/ δεν αφορά τον συγκεκριμένο εξοπλισμό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60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ff33"/>
                </a:solidFill>
                <a:latin typeface="Times New Roman"/>
              </a:rPr>
              <a:t>Η αιτία αναγνωρίζεται και προσδιορίζεται/ αναλύεται επαρκώς στην 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601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9933"/>
                </a:solidFill>
                <a:latin typeface="Times New Roman"/>
              </a:rPr>
              <a:t>Η αιτία αναγνωρίζεται αλλά δεν προσδιορίζεται/ δεν αναλύεται επαρκώς στην 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7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Times New Roman"/>
              </a:rPr>
              <a:t>Η αιτία δεν αναγνωρίζεται στην ΜΑ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662472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66"/>
                </a:solidFill>
                <a:latin typeface="Times New Roman"/>
              </a:rPr>
              <a:t>Εργαστήριο Εργονομίας και Βιομηχανικής Ασφάλειας, </a:t>
            </a:r>
            <a:r>
              <a:rPr b="0" lang="el-GR" sz="2400" spc="-1" strike="noStrike">
                <a:solidFill>
                  <a:srgbClr val="8cf4ea"/>
                </a:solidFill>
                <a:latin typeface="Times New Roman"/>
              </a:rPr>
              <a:t>Τμήμα Μηχανικών Παραγωγής και Διοίκησης, </a:t>
            </a:r>
            <a:r>
              <a:rPr b="0" lang="el-GR" sz="2400" spc="-1" strike="noStrike">
                <a:solidFill>
                  <a:srgbClr val="ffff66"/>
                </a:solidFill>
                <a:latin typeface="Times New Roman"/>
              </a:rPr>
              <a:t>Πολυτεχνείο Κρήτης</a:t>
            </a:r>
            <a:r>
              <a:rPr b="0" lang="el-GR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1628640"/>
            <a:ext cx="7704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48960" indent="-4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l-GR" sz="2400" spc="-1" strike="noStrike" u="sng">
                <a:solidFill>
                  <a:srgbClr val="ffff66"/>
                </a:solidFill>
                <a:uFillTx/>
                <a:latin typeface="Times New Roman"/>
              </a:rPr>
              <a:t>2000 – 2005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Διαχείριση Βιομηχανικού Κινδύνου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, </a:t>
            </a:r>
            <a:r>
              <a:rPr b="0" lang="el-GR" sz="2400" spc="-1" strike="noStrike" u="sng">
                <a:solidFill>
                  <a:srgbClr val="ffffff"/>
                </a:solidFill>
                <a:uFillTx/>
                <a:latin typeface="Times New Roman"/>
              </a:rPr>
              <a:t>Π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960" indent="-4896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φαρμογή Κατευθυντήριων Οδηγιών σε Μελέτες Ασφάλειας ΣΕΒΕΖΟ ΙΙ (νέες μονάδες ΜΟΗ, Πετρογκάζ), κριτήρια ΣΔΑ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min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8960" indent="-4896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8960" indent="-4896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Μεθοδολογία Εκτίμησης Επαγγελματικού Κινδύνου (ΕΛΠΕ, Πετρογκάζ), Εφαρμογή σε Μικρές επιχειρήσεις </a:t>
            </a:r>
            <a:r>
              <a:rPr b="0" lang="en-GB" sz="1800" spc="-1" strike="noStrike">
                <a:solidFill>
                  <a:srgbClr val="fbf9a5"/>
                </a:solidFill>
                <a:latin typeface="Times New Roman"/>
              </a:rPr>
              <a:t>www.microrisk2001.gr/microkat/Index.htm</a:t>
            </a:r>
            <a:r>
              <a:rPr b="0" lang="el-GR" sz="1800" spc="-1" strike="noStrike">
                <a:solidFill>
                  <a:srgbClr val="fbf9a5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8960" indent="-4896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κπαίδευση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Τεχνικού Ασφάλειας</a:t>
            </a:r>
            <a:r>
              <a:rPr b="0" lang="el-GR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από μακριά</a:t>
            </a:r>
            <a:r>
              <a:rPr b="0" lang="el-GR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www.edforsa.vubp</a:t>
            </a:r>
            <a:r>
              <a:rPr b="0" lang="el-GR" sz="1800" spc="-1" strike="noStrike">
                <a:solidFill>
                  <a:srgbClr val="ffff66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cz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8960" indent="-4896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8960" indent="-4896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Μεθοδολογία – </a:t>
            </a:r>
            <a:r>
              <a:rPr b="0" lang="el-GR" sz="1800" spc="-1" strike="noStrike">
                <a:solidFill>
                  <a:srgbClr val="ffff66"/>
                </a:solidFill>
                <a:latin typeface="Times New Roman"/>
              </a:rPr>
              <a:t>Κατευθυντήριες Γραμμές για τις Επιθεωρήσεις ΣΕΒΕΖΟ ΙΙ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σε Διυλιστήρια - Εγκαταστάσεις Πετρελαιοειδών και Υγροποιημένου Φυσικού Αερίου (ΕΛΠΕ-ΜΟΗ-ΕΚΟ-ΔΕΠΑ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8960" indent="-48960">
              <a:lnSpc>
                <a:spcPct val="90000"/>
              </a:lnSpc>
              <a:spcBef>
                <a:spcPts val="451"/>
              </a:spcBef>
              <a:buClr>
                <a:srgbClr val="8cf4ea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8960" indent="-4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ffff66"/>
                </a:solidFill>
                <a:latin typeface="Times New Roman"/>
              </a:rPr>
              <a:t>2004 – 2006</a:t>
            </a:r>
            <a:r>
              <a:rPr b="1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2000" spc="-1" strike="noStrike">
                <a:solidFill>
                  <a:srgbClr val="ffff66"/>
                </a:solidFill>
                <a:latin typeface="Times New Roman"/>
              </a:rPr>
              <a:t>Αξιολογήσεις Μελετών Ασφάλειας ΣΕΒΕΖΟ ΙΙ (ΕΚΕΦΕ – ΕΜΠ - ΠΚ) 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:</a:t>
            </a:r>
            <a:r>
              <a:rPr b="1" lang="el-GR" sz="2000" spc="-1" strike="noStrike">
                <a:solidFill>
                  <a:srgbClr val="ffff66"/>
                </a:solidFill>
                <a:latin typeface="Times New Roman"/>
              </a:rPr>
              <a:t> Διυλιστήρια ΕΛΠΕ ΒΕΘ (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PP, VCM) - </a:t>
            </a:r>
            <a:r>
              <a:rPr b="1" lang="el-GR" sz="2000" spc="-1" strike="noStrike">
                <a:solidFill>
                  <a:srgbClr val="ffff66"/>
                </a:solidFill>
                <a:latin typeface="Times New Roman"/>
              </a:rPr>
              <a:t>ΒΦΛ (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NH</a:t>
            </a:r>
            <a:r>
              <a:rPr b="1" lang="en-US" sz="18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, HF</a:t>
            </a:r>
            <a:r>
              <a:rPr b="1" lang="el-GR" sz="2000" spc="-1" strike="noStrike">
                <a:solidFill>
                  <a:srgbClr val="ffff66"/>
                </a:solidFill>
                <a:latin typeface="Times New Roman"/>
              </a:rPr>
              <a:t>, Οξέα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) - FULGOR (LPG) - </a:t>
            </a:r>
            <a:r>
              <a:rPr b="1" lang="el-GR" sz="2000" spc="-1" strike="noStrike">
                <a:solidFill>
                  <a:srgbClr val="ffff66"/>
                </a:solidFill>
                <a:latin typeface="Times New Roman"/>
              </a:rPr>
              <a:t>ΕΥΔΑΠ (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Cl</a:t>
            </a:r>
            <a:r>
              <a:rPr b="1" lang="en-US" sz="18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) </a:t>
            </a:r>
            <a:r>
              <a:rPr b="1" lang="el-GR" sz="2000" spc="-1" strike="noStrike">
                <a:solidFill>
                  <a:srgbClr val="ffff66"/>
                </a:solidFill>
                <a:latin typeface="Times New Roman"/>
              </a:rPr>
              <a:t>– ΧΥΜΑ (Τολουόλη, Ακετόνη, εύφλεκτα υγρά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Προληπτικά Μέτρα 1/2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773360"/>
            <a:ext cx="806436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>
              <a:spcBef>
                <a:spcPts val="601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τις άμεσες αιτίες ατυχημάτων που έχουν προσδιορισθεί στον κρίσιμο εξοπλισμό εξετάζονται τα προληπτικά μέτρα που αναφέρει η ΜΑ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601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μέτρα ταξινομούνται ανά αιτία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 και αναφέρονται σε τεχνικές προβλέψεις (σχεδιασμού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, συστημάτων ασφάλειας, κλπ.) όπως και σε διαδικασίες  ελέγχου λειτουργίας και ασφάλεια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601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Τα μέτρα αναφέρονται σε συστήματα ανίχνευσης, επικουρικά συστήματα και εξοπλισμό όπως και σε προβλέψεις διαχωρισμού και ποικιλίας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Προληπτικά Μέτρα 2/2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2060640"/>
            <a:ext cx="7777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την αξιολόγηση χρησιμοποιείται η κλίμακα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601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66ff33"/>
                </a:solidFill>
                <a:latin typeface="Times New Roman"/>
              </a:rPr>
              <a:t>Τα σημαντικά μέτρα είναι επαρκή και αναφέρονται στη Μ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601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9933"/>
                </a:solidFill>
                <a:latin typeface="Times New Roman"/>
              </a:rPr>
              <a:t>Το σημαντικά μέτρα αναφέρονται αλλά δεν τεκμηριώνονται επαρκώ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 algn="just">
              <a:spcBef>
                <a:spcPts val="7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Times New Roman"/>
              </a:rPr>
              <a:t>Τα σημαντικά μέτρα δεν αναφέρονται ή είναι ανεπαρκή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 </a:t>
            </a:r>
            <a:br>
              <a:rPr sz="28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 Προληπτικά Μέτρα 2/2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77336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89532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την ποιοτική αξιολόγηση της επάρκειας των μέτρων λαμβάνονται υπόψη παράγοντες όπως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αναφορές σε σχετικές μελέτες π.χ. πυροπροστασία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σοβαρότητα των πιθανών επιπτώσεων από το ατύχημα με του οποίου το αίτιο συνδέεται το εν λόγω μέτρο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ύπαρξη επικουρικών συστημάτων και διαδικασιώ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ναφορές στην αξιοπιστία του συστήματος ή υλικού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 χρόνος ενεργοποίησης και ο βαθμός αυτοματισμού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ναφορές σε σύγχρονα συστήματα και τεχνολογ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 βαθμός συμμετοχής του ανθρώπου,  κλ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913440" cy="1368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ΦΑΣΗ Β΄  </a:t>
            </a:r>
            <a:br>
              <a:rPr sz="2800"/>
            </a:b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ΛΕΓΧΟΣ  ΕΠΑΡΚΕΙΑΣ  ΜΑ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Συστήματα Διαχείρισης Ασφάλειας (ΣΔΑ)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1773360"/>
            <a:ext cx="8137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241200" indent="6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Για την αξιολόγηση της επάρκειας των ΣΔΑ εφαρμόζεται ερωτηματολόγιο, σχετικό με τις κατευθυντήριες γραμμές των επιθεωρήσεων, το οποίο αναφέρεται σ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θεματικές ενότητες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41200" indent="64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Οργάνωση και προσωπικό  - εκπαίδευσ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Προσδιορισμός και εκτίμηση κινδύνων ΒΑΜΕ (διαδικασίες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Έλεγχος λειτουργίας – διαδικασίες συντήρηση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Διαχείριση Αλλαγώ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Σχεδιασμός Έκτακτης Ανάγκ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Παρακολούθηση Απόδοση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895320" indent="-457200">
              <a:spcBef>
                <a:spcPts val="499"/>
              </a:spcBef>
              <a:buClr>
                <a:srgbClr val="8cf4ea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Έλεγχος και επανεξέταση του ΣΔΑ</a:t>
            </a:r>
            <a:r>
              <a:rPr b="1" lang="el-G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5410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l-GR" sz="2800" spc="-1" strike="noStrike" u="sng">
                <a:solidFill>
                  <a:srgbClr val="fafd00"/>
                </a:solidFill>
                <a:uFillTx/>
                <a:latin typeface="Times New Roman"/>
              </a:rPr>
              <a:t>21</a:t>
            </a:r>
            <a:r>
              <a:rPr b="0" lang="el-GR" sz="2800" spc="-1" strike="noStrike" u="sng" baseline="30000">
                <a:solidFill>
                  <a:srgbClr val="fafd00"/>
                </a:solidFill>
                <a:uFillTx/>
                <a:latin typeface="Times New Roman"/>
              </a:rPr>
              <a:t>η</a:t>
            </a:r>
            <a:r>
              <a:rPr b="0" lang="el-GR" sz="2800" spc="-1" strike="noStrike" u="sng">
                <a:solidFill>
                  <a:srgbClr val="fafd00"/>
                </a:solidFill>
                <a:uFillTx/>
                <a:latin typeface="Times New Roman"/>
              </a:rPr>
              <a:t> Σεπτεμβρίου  2001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l-GR" sz="2800" spc="-1" strike="noStrike" u="sng">
                <a:solidFill>
                  <a:srgbClr val="fafd00"/>
                </a:solidFill>
                <a:uFillTx/>
                <a:latin typeface="Times New Roman"/>
              </a:rPr>
              <a:t>Μεγάλο Ατύχημα στη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 </a:t>
            </a:r>
            <a:r>
              <a:rPr b="0" lang="el-GR" sz="2800" spc="-1" strike="noStrike" u="sng">
                <a:solidFill>
                  <a:srgbClr val="fafd00"/>
                </a:solidFill>
                <a:uFillTx/>
                <a:latin typeface="Times New Roman"/>
              </a:rPr>
              <a:t>Τουλούζη </a:t>
            </a:r>
            <a:br>
              <a:rPr sz="2400"/>
            </a:b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773360"/>
            <a:ext cx="784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2" marL="748080" indent="-314280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10:20 π.μ. – Ισχυρότατη έκρηξη στην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ZF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(Λιπάσματα «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so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8080" indent="-314280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29 θάνατοι, &gt; 250 τραυματισμοί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f.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υρωπαϊκό Κοινοβούλιο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8080" indent="-314280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λική καταστροφή εγκατάστασης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λάβες σε γειτονικά κτίρια,  έκρηξη σε γειτονική εγκατάσταση πυρομαχικών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DOMINO ?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8080" indent="-314280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κκένωση Νοσοκομείου, Σχολείων και άλλων κτιρίων, προσωρινό κλείσιμο Αεροδρομίου και Μετρό, διακοπή τηλεφώνω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8080" indent="-314280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ποκλεισμός περιοχής  - κυκλοφοριακό χάος - δυσχέρεια εφαρμογής ΣΑΤΑΜΕ της περιοχή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8080" indent="-314280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Πανικός στους πολίτες λόγω και της αναπόφευκτης συσχέτισης με τις τρομοκρατικές ενέργειες της 11 Σεπτεμβρίου στους δίδυμους πύργους της Νέα Υόρκη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35280" y="380520"/>
            <a:ext cx="6913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afd00"/>
                </a:solidFill>
                <a:uFillTx/>
                <a:latin typeface="Times New Roman"/>
              </a:rPr>
              <a:t>ΒΑΜΕ Τουλούζης </a:t>
            </a:r>
            <a:br>
              <a:rPr sz="2800"/>
            </a:br>
            <a:r>
              <a:rPr b="0" lang="el-GR" sz="2800" spc="-1" strike="noStrike" u="sng">
                <a:solidFill>
                  <a:srgbClr val="fafd00"/>
                </a:solidFill>
                <a:uFillTx/>
                <a:latin typeface="Times New Roman"/>
              </a:rPr>
              <a:t> Ευρωπαϊκό Κοινοβούλιο: Απόφαση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 </a:t>
            </a:r>
            <a:r>
              <a:rPr b="0" lang="el-GR" sz="2800" spc="-1" strike="noStrike" u="sng">
                <a:solidFill>
                  <a:srgbClr val="fafd00"/>
                </a:solidFill>
                <a:uFillTx/>
                <a:latin typeface="Times New Roman"/>
              </a:rPr>
              <a:t>3.10.2001</a:t>
            </a:r>
            <a:r>
              <a:rPr b="0" lang="en-US" sz="3200" spc="-1" strike="noStrike" u="sng">
                <a:solidFill>
                  <a:srgbClr val="fafd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00280"/>
            <a:ext cx="78483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lvl="2" marL="740520" indent="-3110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εγκατάσταση (1924) είναι χαρακτηρισμένη «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so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» από το 1982. Μεγάλη εταιρία, οργανωμένη με εμπειρία σε έλεγχο ΒΑΜ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0520" indent="-3110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λέτη Ασφάλειας «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so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 ΙΙ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» και Σύστημα Διαχείρισης Ασφάλειας: </a:t>
            </a:r>
            <a:r>
              <a:rPr b="0" lang="el-GR" sz="2000" spc="-1" strike="noStrike" u="sng">
                <a:solidFill>
                  <a:srgbClr val="ffff66"/>
                </a:solidFill>
                <a:uFillTx/>
                <a:latin typeface="Times New Roman"/>
              </a:rPr>
              <a:t>Καταχωρημένα, Αξιολογημένα, Εγκεκριμέν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0520" indent="-3110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Η εγκατάσταση είχε επιθεωρηθεί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κατά «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Seveso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 ΙΙ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»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0520" indent="-3110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Οι επιπτώσεις έγιναν πιο δραματικές διότι η εγκατάσταση ήταν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κοντά σε περιοχή κατοικίας.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Γειτνίαση με άλλες επικίνδυνες εγκαταστάσεις πιθανόν να ενεργοποιούσε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mi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0520" indent="-3110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Λόγω του μεγέθους των ΒΑΜΕ, της επανάληψης τους και της αίσθησης του κοινού ότι είναι τελικά αναπόφευκτα,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χάθηκε η εμπιστοσύνη των πολιτών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στο νομοθετικό και ρυθμιστικό  πλαίσιο για την προστασία του πολίτ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1992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afd00"/>
                </a:solidFill>
                <a:uFillTx/>
                <a:latin typeface="Times New Roman"/>
              </a:rPr>
              <a:t>ΒΑΜΕ Τουλούζης </a:t>
            </a:r>
            <a:br>
              <a:rPr sz="2800"/>
            </a:br>
            <a:r>
              <a:rPr b="0" lang="el-GR" sz="2800" spc="-1" strike="noStrike" u="sng">
                <a:solidFill>
                  <a:srgbClr val="fafd00"/>
                </a:solidFill>
                <a:uFillTx/>
                <a:latin typeface="Times New Roman"/>
              </a:rPr>
              <a:t> Ευρωπαϊκό Κοινοβούλιο: Πρόταση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</a:rPr>
              <a:t> </a:t>
            </a:r>
            <a:r>
              <a:rPr b="0" lang="el-GR" sz="2800" spc="-1" strike="noStrike" u="sng">
                <a:solidFill>
                  <a:srgbClr val="fafd00"/>
                </a:solidFill>
                <a:uFillTx/>
                <a:latin typeface="Times New Roman"/>
              </a:rPr>
              <a:t>3.10.2001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1700280"/>
            <a:ext cx="79912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755640" indent="-31752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ίναι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αδύνατο το «Μηδενικό Ρίσκο»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σε περίπτωση γειτνίασης αστικού πληθυσμού με μονάδες ΣΕΒΕΖ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55640" indent="-317520" algn="just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λεί τις χώρες μέλη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55640" indent="-31752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Πρόσληψη προσωπικού για κάλυψη των αναγκών των αρμόδιων φορέων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και εκπαίδευση επιθεωρητών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55640" indent="-31752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Να αναθεωρηθεί εκ βάθρων ο χωροταξικός &amp; πολεοδομικός σχεδιασμός στις περιοχές κοντά σε μονάδες ΣΕΒΕΖ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55640" indent="-31752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Να κάνουν ότι είναι δυνατόν οι εμπλεκόμενοι ώστε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να διατηρηθούν οι θέσεις εργασίας και να αποφευχθεί μετεγκατάσταση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των μονάδων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σε χώρες με χαμηλότερα περιβαλλοντικά &amp; κοινωνικά πρότυπα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55640" indent="-31752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ΝΑ ΜΗΝ προστεθεί κοινωνική τραγωδία στην περιβαλλοντική απειλή</a:t>
            </a: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912600" cy="1327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92360" y="333360"/>
            <a:ext cx="6408720" cy="809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fafd00"/>
                </a:solidFill>
                <a:uFillTx/>
                <a:latin typeface="Times New Roman"/>
              </a:rPr>
              <a:t>Ρόλος των Μελετών Ασφάλειας </a:t>
            </a:r>
            <a:r>
              <a:rPr b="0" lang="en-GB" sz="1800" spc="-1" strike="noStrike" u="sng">
                <a:solidFill>
                  <a:srgbClr val="fafd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21040" y="1473120"/>
            <a:ext cx="2463840" cy="635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87640" y="3479760"/>
            <a:ext cx="2376360" cy="901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6400" y="2273400"/>
            <a:ext cx="1682640" cy="768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73760" y="2286000"/>
            <a:ext cx="2584440" cy="685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01800" y="4292640"/>
            <a:ext cx="1606320" cy="768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4254480"/>
            <a:ext cx="1904760" cy="768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040" y="2438280"/>
            <a:ext cx="1379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ιομηχαν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71000" y="4470480"/>
            <a:ext cx="1379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Βιομηχανί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2280" y="2438280"/>
            <a:ext cx="192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Αρμόδιοι Φορεί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26560" y="4416480"/>
            <a:ext cx="961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Φορεί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866960" y="1809360"/>
            <a:ext cx="1047600" cy="438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48240" y="1771560"/>
            <a:ext cx="1143000" cy="4762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1600200"/>
            <a:ext cx="2438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λέτη Ασφάλεια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32000" y="3552840"/>
            <a:ext cx="2305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Καταχώρησ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Μελέτης Ασφάλεια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4800" y="2133720"/>
            <a:ext cx="0" cy="1333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7800" y="3314880"/>
            <a:ext cx="9093240" cy="37800"/>
          </a:xfrm>
          <a:prstGeom prst="line">
            <a:avLst/>
          </a:prstGeom>
          <a:ln w="1260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57000" y="4343400"/>
            <a:ext cx="530280" cy="190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4343400"/>
            <a:ext cx="560520" cy="171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2000" y="3624120"/>
            <a:ext cx="2122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66"/>
                </a:solidFill>
                <a:latin typeface="Times New Roman"/>
              </a:rPr>
              <a:t>Εργαλείο Υποστήριξης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66"/>
                </a:solidFill>
                <a:latin typeface="Times New Roman"/>
              </a:rPr>
              <a:t>Αποφάσεων Διοίκηση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1440" y="5064120"/>
            <a:ext cx="1499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ffff66"/>
                </a:solidFill>
                <a:uFillTx/>
                <a:latin typeface="Times New Roman"/>
              </a:rPr>
              <a:t>Διασφάλιση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ffff66"/>
                </a:solidFill>
                <a:uFillTx/>
                <a:latin typeface="Times New Roman"/>
              </a:rPr>
              <a:t>Εργαζομένων</a:t>
            </a:r>
            <a:r>
              <a:rPr b="1" lang="el-GR" sz="1800" spc="-1" strike="noStrike" u="sng">
                <a:solidFill>
                  <a:srgbClr val="ffff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9000" y="2209680"/>
            <a:ext cx="140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66"/>
                </a:solidFill>
                <a:latin typeface="Times New Roman"/>
              </a:rPr>
              <a:t>Συμπλήρω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6920" y="1463760"/>
            <a:ext cx="1761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ΑΞΙΟΛΟΓΗΣ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48000" y="5424480"/>
            <a:ext cx="2421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Διορθωτικές Ενέργειες 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ροληπτικά Μέτρα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4632480"/>
            <a:ext cx="2016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Σχεδιασμός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Έκτακτης Ανάγκη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552760" y="2666880"/>
            <a:ext cx="3276720" cy="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56360" y="3768840"/>
            <a:ext cx="145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ffff66"/>
                </a:solidFill>
                <a:uFillTx/>
                <a:latin typeface="Times New Roman"/>
              </a:rPr>
              <a:t>Αδειοδότηση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43280" y="4919760"/>
            <a:ext cx="1478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66"/>
                </a:solidFill>
                <a:latin typeface="Times New Roman"/>
              </a:rPr>
              <a:t>Χωροταξικό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66"/>
                </a:solidFill>
                <a:latin typeface="Times New Roman"/>
              </a:rPr>
              <a:t>Σχεδιασμός</a:t>
            </a:r>
            <a:r>
              <a:rPr b="1" lang="el-GR" sz="1800" spc="-1" strike="noStrike" u="sng">
                <a:solidFill>
                  <a:srgbClr val="ffff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6360" y="5784840"/>
            <a:ext cx="1998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66"/>
                </a:solidFill>
                <a:latin typeface="Times New Roman"/>
              </a:rPr>
              <a:t>Ενημέρωση Κοινού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45080" y="5135400"/>
            <a:ext cx="243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Προτάσεις Διορθωτικώ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Ενεργειώ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65840" y="4487760"/>
            <a:ext cx="1478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ffff66"/>
                </a:solidFill>
                <a:uFillTx/>
                <a:latin typeface="Times New Roman"/>
              </a:rPr>
              <a:t>Εργαλείο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 u="sng">
                <a:solidFill>
                  <a:srgbClr val="ffff66"/>
                </a:solidFill>
                <a:uFillTx/>
                <a:latin typeface="Times New Roman"/>
              </a:rPr>
              <a:t>Επιθεώρηση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66920" y="4056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66"/>
                </a:solidFill>
                <a:latin typeface="Times New Roman"/>
              </a:rPr>
              <a:t>ΣΑΤΑΜΕ</a:t>
            </a: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47200" y="1676520"/>
            <a:ext cx="963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Times New Roman"/>
              </a:rPr>
              <a:t>Σύνταξη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2039760"/>
            <a:ext cx="1942920" cy="223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763280" y="2111400"/>
            <a:ext cx="1800360" cy="216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595008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5280" y="380520"/>
            <a:ext cx="6913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ffffff"/>
                </a:solidFill>
                <a:uFillTx/>
                <a:latin typeface="Times New Roman"/>
              </a:rPr>
              <a:t>Αξιολόγηση Μελετών Ασφάλειας (ΜΑ) </a:t>
            </a:r>
            <a:br>
              <a:rPr sz="3200"/>
            </a:br>
            <a:r>
              <a:rPr b="0" lang="el-GR" sz="3200" spc="-1" strike="noStrike" u="sng">
                <a:solidFill>
                  <a:srgbClr val="fafd00"/>
                </a:solidFill>
                <a:uFillTx/>
                <a:latin typeface="Times New Roman"/>
              </a:rPr>
              <a:t>Προκαταρτικά βήματα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6920" y="1989000"/>
            <a:ext cx="784872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2" marL="732960" indent="-30780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ffffff"/>
                </a:solidFill>
                <a:uFillTx/>
                <a:latin typeface="Times New Roman"/>
              </a:rPr>
              <a:t>Γενική κατανόηση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32960" indent="-3078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Σκοπός της εγκατάστασης: δραστηριότητες, διεργασίε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32960" indent="-3078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Επικίνδυνες ουσίες: κατηγορία (εύφλεκτα, τοξικά), χαρακτηριστικά, ποσότητες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32960" indent="-3078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Μονάδες που εξετάζονται στη ΜΑ και διεργασίες του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32960" indent="-307800" algn="just">
              <a:spcBef>
                <a:spcPts val="601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ff"/>
                </a:solidFill>
                <a:latin typeface="Times New Roman"/>
              </a:rPr>
              <a:t>Περιβάλλον της εγκατάστασης: φυσικό και ανθρωπογενές (κατοικία, βιομηχανία, χρήσεις γης, συγκοινωνία, μεταφορές, κλπ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6913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ffffff"/>
                </a:solidFill>
                <a:uFillTx/>
                <a:latin typeface="Times New Roman"/>
              </a:rPr>
              <a:t>Αξιολόγηση Μελετών Ασφάλειας (ΜΑ)</a:t>
            </a:r>
            <a:r>
              <a:rPr b="0" lang="el-GR" sz="3200" spc="-1" strike="noStrike" u="sng">
                <a:solidFill>
                  <a:srgbClr val="fafd00"/>
                </a:solidFill>
                <a:uFillTx/>
                <a:latin typeface="Times New Roman"/>
              </a:rPr>
              <a:t> </a:t>
            </a:r>
            <a:br>
              <a:rPr sz="3200"/>
            </a:br>
            <a:r>
              <a:rPr b="0" lang="el-GR" sz="3200" spc="-1" strike="noStrike" u="sng">
                <a:solidFill>
                  <a:srgbClr val="fafd00"/>
                </a:solidFill>
                <a:uFillTx/>
                <a:latin typeface="Times New Roman"/>
              </a:rPr>
              <a:t>Προκαταρκτικοί  Έλεγχοι 1/2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1700280"/>
            <a:ext cx="7848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lvl="2" marL="740520" indent="-3110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Η εγκατάσταση υπάγεται στη ΚΥΑ 5697/590/2000 λόγω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μιας επικίνδυνης ουσίας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0520" indent="-3110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Αν ΝΑΙ, αναφέρονται όλες οι μονάδες που περιέχουν αυτήν την ουσί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0520" indent="-3110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ffcc"/>
                </a:solidFill>
                <a:latin typeface="Times New Roman"/>
              </a:rPr>
              <a:t>Αν ΟΧΙ</a:t>
            </a:r>
            <a:r>
              <a:rPr b="0" lang="en-US" sz="2000" spc="-1" strike="noStrike">
                <a:solidFill>
                  <a:srgbClr val="00ffcc"/>
                </a:solidFill>
                <a:latin typeface="Times New Roman"/>
              </a:rPr>
              <a:t>,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00ffcc"/>
                </a:solidFill>
                <a:latin typeface="Times New Roman"/>
              </a:rPr>
              <a:t>αναφέρονται όλες οι επικίνδυνες ουσίες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ανεξάρτητα από τις ποσότητες τους; (και για τις ουσίες με ποσότητες μικρότερες από τις οριακές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0520" indent="-3110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Εφαρμόζεται </a:t>
            </a:r>
            <a:r>
              <a:rPr b="0" lang="el-GR" sz="2000" spc="-1" strike="noStrike">
                <a:solidFill>
                  <a:srgbClr val="00ffcc"/>
                </a:solidFill>
                <a:latin typeface="Times New Roman"/>
              </a:rPr>
              <a:t>η αθροιστική ιδιότητα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για εύφλεκτα – εκρηκτικά – οξειδωτικά και για τοξικά – επικίνδυνα για το περιβάλλον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740520" indent="-311040" algn="just">
              <a:spcBef>
                <a:spcPts val="499"/>
              </a:spcBef>
              <a:spcAft>
                <a:spcPts val="601"/>
              </a:spcAft>
              <a:buClr>
                <a:srgbClr val="8cf4ea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Στον υπολογισμό του αθροίσματος (κλάσμα οριακών ποσοτήτων)  συμπεριλαμβάνονται </a:t>
            </a:r>
            <a:r>
              <a:rPr b="0" lang="el-GR" sz="2000" spc="-1" strike="noStrike">
                <a:solidFill>
                  <a:srgbClr val="ffff00"/>
                </a:solidFill>
                <a:latin typeface="Times New Roman"/>
              </a:rPr>
              <a:t>όλες οι μονάδες της εγκατάστασης ανεξάρτητα που βρίσκονται</a:t>
            </a:r>
            <a:r>
              <a:rPr b="0" lang="el-GR" sz="2000" spc="-1" strike="noStrike">
                <a:solidFill>
                  <a:srgbClr val="ffffff"/>
                </a:solidFill>
                <a:latin typeface="Times New Roman"/>
              </a:rPr>
              <a:t> π.χ. μη συνεχόμενα οικόπεδα 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912960" cy="13273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57200" y="5877000"/>
            <a:ext cx="83818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 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___________________________</a:t>
            </a:r>
            <a:r>
              <a:rPr b="0" lang="en-US" sz="1400" spc="-1" strike="noStrike">
                <a:solidFill>
                  <a:srgbClr val="8cf4ea"/>
                </a:solidFill>
                <a:latin typeface="Times New Roman"/>
              </a:rPr>
              <a:t>_______________________________</a:t>
            </a: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_____________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Πολυτεχνείο Κρήτης - Αξιολογήσεις Μελετών Ασφάλειας - Βιομηχανικά Ατυχήματα Μεγάλης Έκτασης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8cf4ea"/>
                </a:solidFill>
                <a:latin typeface="Times New Roman"/>
              </a:rPr>
              <a:t>Σεμινάριο ΥΠΑΝ,  Αθήνα 18 – 19 Απριλίου 2005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1T09:25:34Z</dcterms:created>
  <dc:creator>GPAPAPDAKIS</dc:creator>
  <dc:description/>
  <cp:keywords/>
  <dc:language>en-US</dc:language>
  <cp:lastModifiedBy>Georgios A. Papadakhs</cp:lastModifiedBy>
  <cp:lastPrinted>1999-08-30T14:23:44Z</cp:lastPrinted>
  <dcterms:modified xsi:type="dcterms:W3CDTF">2005-04-14T17:46:56Z</dcterms:modified>
  <cp:revision>140</cp:revision>
  <dc:subject>SEMINARIO YPAN</dc:subject>
  <dc:title>AXIOLOGHSEIS SAFETY REPORT</dc:title>
</cp:coreProperties>
</file>